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wmf" ContentType="image/x-wmf"/>
  <Override PartName="/ppt/media/image18.gif" ContentType="image/gif"/>
  <Override PartName="/ppt/media/image4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wmf" ContentType="image/x-wmf"/>
  <Override PartName="/ppt/media/image15.jpeg" ContentType="image/jpe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632-E281-4C51-9745-138DAEAA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DFB-7601-43A3-ABDB-2D09B8C6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553-FF09-4156-BD07-34874724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D36-C972-4682-8D1C-ED57E764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B71-E224-4AA6-89E1-9F03F83B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546-5A23-4BBF-B8C7-2082DB0E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C90-3612-4BEB-97C0-8D448E32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D6E-782C-4963-A763-7014D5B2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B84-58CF-4BF1-A978-1CDAC69F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2A2-1FEF-435A-9E72-6812E879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A77-537A-405E-87DC-DCD7EBB4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239-36FC-4D26-BD19-31C3C7FB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644D-5715-4F46-BAEB-D880E1837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gi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e2e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311880" y="2060640"/>
            <a:ext cx="2570040" cy="428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260280"/>
            <a:ext cx="5472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T Bold Heading"/>
              </a:rPr>
              <a:t>آداب الطعا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2736720" cy="99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92360" y="3797280"/>
            <a:ext cx="52545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2079720" cy="331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16000" y="2276640"/>
            <a:ext cx="1860480" cy="3485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344760" cy="383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908000" y="501336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411280" y="469908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635280" y="5013360"/>
            <a:ext cx="1917720" cy="81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00720" y="404640"/>
            <a:ext cx="37432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80">
                    <a:alpha val="6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ـع السلامة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80">
                  <a:alpha val="6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5:56:24Z</dcterms:created>
  <dc:creator>User</dc:creator>
  <dc:description/>
  <dc:language>en-US</dc:language>
  <cp:lastModifiedBy>User</cp:lastModifiedBy>
  <dcterms:modified xsi:type="dcterms:W3CDTF">2006-05-17T10:51:45Z</dcterms:modified>
  <cp:revision>7</cp:revision>
  <dc:subject/>
  <dc:title>Slide 1</dc:title>
</cp:coreProperties>
</file>